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F9B-041D-48D2-9D63-3949C970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BC3-5907-4BD2-A6FC-D0AE939D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056E3-7118-402C-9048-D1A1EF1D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11413-6526-49A6-918E-F3A4D02A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96909-FF8C-48CF-AF5E-9051BC49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23E5C-9998-4181-821B-3F42A470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E06E4-EF26-4A30-9DB1-6B092CA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2D28E-3117-4852-BF16-8023558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0A155-FBE5-4021-8BA3-C91B6AB1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422A4-9D61-481B-A1B1-3B7357BE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06697-EA73-499D-8087-A0EFA969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490-2A6C-4B51-ACF8-5600D204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D55-C854-472E-80E6-5112744F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0401-229A-47E6-8C97-FE0BDC5A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FC61-0A9D-4049-9E9D-2CFA31DD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FF2B-AD1B-48C6-9921-5BE33033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6F53-9636-4AA3-BAC0-8EF87FF6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E646-443E-4EA7-85E5-281225E5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1D25-A639-41AB-B10B-59382F79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8D3A-105D-427D-AB81-616FF6FB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0A1-9582-47A1-88AE-B016CECF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2765-D11E-4198-B3D6-C66946ED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144E-64BF-4D58-AF3A-9B3288E0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99DE-5C83-4B6A-A2AE-C71CA52B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CB3B-1C31-4D7A-AE83-98BAEDF4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91D8-256D-4663-B31B-650014D7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6538-0ED8-4FDC-9826-5D101F7D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3F3B-BA6F-4AFC-A9E4-AE5F165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C9740-1640-4817-8C9C-F03A5419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7976-EA60-4226-B1DD-C13CDC17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708C1-9895-4A0B-9E01-13F8CE85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D2E-EB02-4BDC-9937-25DA3050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1FE23-1A01-4DA1-9961-E121BF2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4709-3370-45AE-A77E-D5BA4FC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5271-88BA-4579-9DF6-9C9A869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13D0-B886-4584-BE97-B9C6BB3B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45F2-5297-4566-A4E6-59302696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9260-1DDF-46CC-9991-2B5AA0BB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21C6-8814-48B6-B4BC-382ADB78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57242-1AAC-4406-A41B-CB5C0D32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6BC3-ADEC-4E12-8A61-08F546BD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B5FB-506B-4A97-99AE-72AA6CC4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38E-62DA-464D-95A9-AAA3F6CA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1269-AEC0-4797-8D3D-DC7F380E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50798-D692-47BB-BE55-BDD0D399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B4F2-0E71-4BA1-A277-D263E31F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0ECAE-9B3D-45FB-A733-6727764D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67B9-94AF-4457-B776-327F80D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37B5-6CDA-4DA9-B2EA-3819D7B6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F8FE9-3022-46C3-BA87-197D0B8E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A8D78-3DF6-4890-B14F-496B6BAD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0A67A-72AD-4D0C-A2FD-AA4CE37D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0C1D5-7314-4565-A6D8-26B4AADA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F9A-A976-4F57-B509-F1ED5CA7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9158-A0D8-416A-B0E5-E0EC7BC9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40668-0D0A-497E-9124-8F2D3E17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10EA7-21B6-4AE3-92FA-3A4B5DC8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57FF-F230-4F01-BF94-1F18D51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70F1-CA15-4CA8-915D-236B16C6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796F-365E-4D7E-B351-FDFE4046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C7281-8296-4641-9351-7BC7DAFB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CF70-CC1B-4DBB-BA2E-6A7BD53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6AB4-9C39-45E1-AAA5-18EF1FE5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0F370-9B1F-42EF-99F2-442AE395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C73-93B8-4BD4-AACC-8200E31D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2F3A-FD7F-46F4-A52E-23AE2FBF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C2AB-BDBB-4C84-BA3E-8828AAA7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83A8F-E293-419B-8943-5ED5E78C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6D6CA-3FCD-479B-BA53-B8CD6F06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DFCAD-7D52-490C-95C2-DEB7879E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2343B-11DF-4F1D-9447-EC4418C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3D43C-9352-448B-A593-E0686BB3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92A2B-EF0B-4684-A609-D7478455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E3161-584F-4B92-AF17-3BA61C74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5E132-D3A2-44F3-B9BF-EFABE800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A6D-A689-4E16-9833-32F3B549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5CA9-EC35-40AB-B357-C2E59048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845E6-7901-41B5-B907-695B3EE7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0642-FE9A-44C9-8730-2597C576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BD4E0-EC4C-405C-89F4-AB241446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85C39-AC97-4258-B89E-16C58023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D58BB-0399-4B4F-B83A-99467A17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EB86-4FE4-48F1-9EDF-376361F0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51917-090E-4B53-BC7F-6FA017E6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270FE-5881-41D1-AA1C-7D04A3C5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CB21A-792F-4203-87FE-A55A503A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69B-F70F-4234-BBFC-74B2EB7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B152-0744-4C4D-8CFB-E10240B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5930A-17C9-4C18-A15D-CA34DC11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AB30-EA09-4F01-8E58-C649CD4D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94237-B46B-428B-915A-2F811FD8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DC9E-9F50-4F1A-BD4B-E118EB6A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BCB56-C9FB-4D9F-AEF5-F3329DA2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78B7-3694-40EF-888C-749C852F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E80D4-6A6A-4310-97BC-82BAD3BA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E2EAE-F8DB-4F85-9EBC-E5177F86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6422F-4A5A-4DC6-9DF2-C3B33CE3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529-7FF7-4484-88BD-59D9FD9B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79B79-8CAC-497B-B13C-F0A2C711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8D799-2FC3-4B40-9A45-C834380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E47F4-9B36-4CA4-8451-9D4A68A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C243E-55D2-41E1-98F9-97B5F5EC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1FA62-D3E8-44F5-B205-FA742C47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D9A57-0C1F-4631-96C6-A13243AC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1C783-3DF2-4676-8403-D978FF3A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B7711-82A0-4248-8E93-86FBBB10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3C0DE-66E1-4E7C-86A9-5C8A79D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030B3-7AE6-4E1F-AAAC-9C8CEBD1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65B5-A008-44A1-8028-35C5BD1B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FA4-7299-41C8-8805-B469B00A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FFC3-18D2-4267-A3DA-51EE43209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610B-3E4A-431D-A594-1B19F1878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CE1C-AE4D-4CD5-BB59-0B8382EF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0257-8325-476B-B887-EB92B0FB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D96A-B4A1-4C25-99F9-28094C90D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1A9B-9753-4094-B230-CC04ACD8A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0D53-7681-42F4-982E-2B998DBAA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1.4: Types of Functions and their Rates of Chang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use constant and linea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slope as a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use non-linea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linear and non-linear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interpret average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difference quot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onstant Function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ant function is re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b is a constant (fixed)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of a constant func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Linear Function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ar function is re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and b are constant (fixed)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also have seen this as y=mx+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of a linear func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Slop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m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y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s also called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lope of this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562720" y="2209680"/>
          <a:ext cx="3000240" cy="390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209680"/>
                    <a:ext cx="30002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Linear vs. nonlinear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examples of nonlinear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none of them are straight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295280" y="2209680"/>
          <a:ext cx="1792440" cy="233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209680"/>
                    <a:ext cx="179244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3657600" y="2133720"/>
          <a:ext cx="1909800" cy="248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2133720"/>
                    <a:ext cx="190980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6324480" y="2133720"/>
          <a:ext cx="1792440" cy="23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24480" y="2133720"/>
                    <a:ext cx="17924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Average rate of chang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average rate of change between two point, use the formula for slo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the two coordinates a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Find the average rate of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verage rate of change between 0 and 4 for each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34120" y="1600200"/>
          <a:ext cx="3489120" cy="454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4120" y="1600200"/>
                    <a:ext cx="34891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5334120" y="1523880"/>
          <a:ext cx="3489120" cy="454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1523880"/>
                    <a:ext cx="34891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Difference quotient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used to find the average rate of change.  It shows up a lot in calcul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(x+h)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quotien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27:46Z</dcterms:created>
  <dc:creator>nuhs</dc:creator>
  <dc:description/>
  <dc:language>en-US</dc:language>
  <cp:lastModifiedBy>nuhs</cp:lastModifiedBy>
  <dcterms:modified xsi:type="dcterms:W3CDTF">2008-01-10T20:20:46Z</dcterms:modified>
  <cp:revision>6</cp:revision>
  <dc:subject/>
  <dc:title>1.4: Types of Functions and their Rates of Change</dc:title>
</cp:coreProperties>
</file>